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3652-5D0A-4C86-BEE3-F9B4266AA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06D3-1A00-4473-A1DF-993428047A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758-0461-40CD-9016-0C2ADBBE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64B-CE72-403A-AA6C-D58BAF27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B00-7EC3-457B-970D-01C795E1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A6F-4160-403B-A515-D4C0F22A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655E-AFA2-4AB8-983C-904F8EAB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961E-C3F3-45A0-9E6D-7738E3D7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0F16-CC52-42BD-ADFB-4497F8A0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74A8-C192-4784-BF2C-07F7BB4F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DBBD-C477-406D-9992-B3DAEB4B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A1BF-D411-4366-A55C-0AD528DA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263B-FC3B-4C88-8ADE-4439083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B94-36BB-44DE-B0E5-24F2249C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74D7-A19C-49DB-9ABD-4FF741A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65B9-269B-40C5-943C-46F06648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C559-77DE-4F29-B607-86A0D57F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3919-D315-4D56-8DEB-310CC408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020D-C9CC-4514-A1DD-81506CE1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B1B49-E58F-4657-8040-D9F18AA3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4BB7-7866-45FA-9594-81A40E29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8C82-ECB2-4713-99E4-46618745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8783-321D-401E-874A-337E8510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A973-6B96-4F8C-B539-E7361CB1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53F-57F4-4E68-B905-039037A4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017C-E8F7-4C26-B9EB-FF895066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DD85-6E3D-4B85-9FF4-2B522908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C7D1-B297-4D0D-AA60-FFE14FA1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6D54A-2824-44CF-AFE2-56CD029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2862-DBA8-49CB-9230-29EDED26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6E30-90BF-4BB8-BF12-546AC95E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FCA1-434B-498A-85E1-16CF118F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A95-E4AC-462B-85DF-46508443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B6D-A70C-48D0-97DC-DA32C26F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DE3-65B6-4F28-9602-78B6C6BD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AA0-E9B0-4BC2-92DF-C0C6C24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999-78AA-478A-AC59-EC65EB1D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32C-2F01-43AE-B3EC-4B5F6336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a1e"/>
            </a:gs>
            <a:gs pos="100000">
              <a:srgbClr val="54643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139E-8344-43A7-829A-94EEE2B9D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a1e"/>
            </a:gs>
            <a:gs pos="100000">
              <a:srgbClr val="54643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E9CE-5148-4CD9-9B69-997A2913E9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a1e"/>
            </a:gs>
            <a:gs pos="100000">
              <a:srgbClr val="54643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A5D6-80EC-4F40-9883-5B6B67478A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алгоритм? Привести примеры алгоритмов. Какие существуют способы описания алгорит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характеризовать свойство результативности, дискретности, массов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характеризовать свойство конечности, понятности, детерминирова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можно ли представить нашу жизнь без алгоритм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Мальчик"/>
          <p:cNvPicPr/>
          <p:nvPr/>
        </p:nvPicPr>
        <p:blipFill>
          <a:blip r:embed="rId5"/>
          <a:stretch/>
        </p:blipFill>
        <p:spPr>
          <a:xfrm>
            <a:off x="7236000" y="4626000"/>
            <a:ext cx="1738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дача №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5b55e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0+1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5b55e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*3=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5b55e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+1=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5b55e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+1=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5b55e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*3=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5b55e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5+1=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AG00317_"/>
          <p:cNvPicPr/>
          <p:nvPr/>
        </p:nvPicPr>
        <p:blipFill>
          <a:blip r:embed="rId1"/>
          <a:stretch/>
        </p:blipFill>
        <p:spPr>
          <a:xfrm>
            <a:off x="6429240" y="214200"/>
            <a:ext cx="18288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дача №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31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*3=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3-1=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*3=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6-1=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-1=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j0229369"/>
          <p:cNvPicPr/>
          <p:nvPr/>
        </p:nvPicPr>
        <p:blipFill>
          <a:blip r:embed="rId6"/>
          <a:stretch/>
        </p:blipFill>
        <p:spPr>
          <a:xfrm>
            <a:off x="6227640" y="2349360"/>
            <a:ext cx="1860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Задача №5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полнить 3-литровый сос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лить воду в 5-литров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полнить 3-литровый сос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лить воду в 5-литров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-литровый будет полный, а в 3-литровом останется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 литр вод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лить всю воду из 5-литров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лить в него 1 ли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брать 3-литровый сосуд и вылить воду в 5-литровый. Получим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4 литр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Задача №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ирать 3 раза 3-литровый сосуд и всё время выливать воду в 8- литровый сос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лить всю воду из 8-литрового сосу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ть в него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 литр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3-литрового сос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рать 2 раза 3-литровый сосуд и выливать воду в 8-литровый. Всего получим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7 литр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5867280" y="2133720"/>
            <a:ext cx="2017800" cy="1077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716360" y="2852640"/>
            <a:ext cx="863640" cy="287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4716360" y="2492280"/>
            <a:ext cx="863640" cy="360360"/>
          </a:xfrm>
          <a:prstGeom prst="rect">
            <a:avLst/>
          </a:prstGeom>
          <a:solidFill>
            <a:srgbClr val="7b8a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6516720" y="2492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 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4788000" y="2781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Тема: Арифметические операции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8" name="Picture 4" descr="j0232133"/>
          <p:cNvPicPr/>
          <p:nvPr/>
        </p:nvPicPr>
        <p:blipFill>
          <a:blip r:embed="rId1"/>
          <a:stretch/>
        </p:blipFill>
        <p:spPr>
          <a:xfrm>
            <a:off x="285840" y="2643120"/>
            <a:ext cx="1893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Арифметические опер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952560"/>
          <a:ext cx="9144000" cy="5908680"/>
        </p:xfrm>
        <a:graphic>
          <a:graphicData uri="http://schemas.openxmlformats.org/drawingml/2006/table">
            <a:tbl>
              <a:tblPr/>
              <a:tblGrid>
                <a:gridCol w="4211640"/>
                <a:gridCol w="188424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+2=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ч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2=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нож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*2=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/2=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ение нацел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\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\10=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ток от дел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 mod 10=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едение в степен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^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^3=1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ен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R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QR(36)=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уль чис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S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S(-8)=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0:35:53Z</dcterms:created>
  <dc:creator>Natalia</dc:creator>
  <dc:description/>
  <dc:language>en-US</dc:language>
  <cp:lastModifiedBy>ДИМОН</cp:lastModifiedBy>
  <dcterms:modified xsi:type="dcterms:W3CDTF">2011-09-19T05:23:26Z</dcterms:modified>
  <cp:revision>25</cp:revision>
  <dc:subject/>
  <dc:title>Тема: Способы описания алгоритмов.</dc:title>
</cp:coreProperties>
</file>